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CC8-A5BC-424F-9E41-13F63BF8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F4B-B25C-4E3A-B95F-084F05A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4B9-E14B-45BD-BD11-4A338D252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05D-5C77-42BF-AB7F-7404A916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0B3D-AFB3-4CD5-BFA9-2BD15F0D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2A30-0DA3-467C-8242-4A159774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6F46-0709-47E7-8377-98668952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BF9-32F0-4688-BC25-DB81F941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B13-2AC4-4338-AED7-6D3C4689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3691-2A76-444F-9903-13C592F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EBC-775E-4D4E-AD8B-94A09EB2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1CA-F1FB-4916-BE94-C79FD78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2B28-0919-4258-9310-7F0089AC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6:55:32Z</dcterms:created>
  <dc:creator>ce</dc:creator>
  <dc:description/>
  <dc:language>en-US</dc:language>
  <cp:lastModifiedBy>ce</cp:lastModifiedBy>
  <dcterms:modified xsi:type="dcterms:W3CDTF">2008-09-09T17:17:01Z</dcterms:modified>
  <cp:revision>2</cp:revision>
  <dc:subject/>
  <dc:title>Slide 1</dc:title>
</cp:coreProperties>
</file>